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0A96-BC97-49E2-8BF2-267DD952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3AA-B5E9-4FA0-A790-90232EC8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2742-4ED9-45D4-8D65-E8076298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BCA-AD09-4CB5-B38F-B1698019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84E-4794-47D2-89BC-FA40E945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C47E-67C9-4ABE-96A6-DBA1F8D8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CFDC-3896-4CE8-9693-A9EFC6AA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F8C6-0DDB-46C3-A0DF-AC1673B0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CFA9-BBA5-4C6E-8A64-E65C222F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9EF-91DB-4114-8788-CBFDCB4C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4EF7-5599-48B2-9926-4B8F6964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3566-4F14-41F6-BB53-2BDFD135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7CAA-F40F-4688-8090-1570B403D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Chime.wav" TargetMode="External"/><Relationship Id="rId3" Type="http://schemas.microsoft.com/office/2007/relationships/media" Target="file:///tmp/home/.config/libreoffice/4/user/gallery/Chim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SCREAM.WAV" TargetMode="External"/><Relationship Id="rId3" Type="http://schemas.microsoft.com/office/2007/relationships/media" Target="file:///tmp/home/.config/libreoffice/4/user/gallery/SCREAM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file:///tmp/home/.config/libreoffice/4/user/gallery/Aliens.wav" TargetMode="External"/><Relationship Id="rId3" Type="http://schemas.microsoft.com/office/2007/relationships/media" Target="file:///tmp/home/.config/libreoffice/4/user/gallery/Aliens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Evil%20laugh.wav" TargetMode="External"/><Relationship Id="rId3" Type="http://schemas.microsoft.com/office/2007/relationships/media" Target="file:///tmp/home/.config/libreoffice/4/user/gallery/Evil%20laug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tmp/home/.config/libreoffice/4/user/gallery/SPARKLE.WAV" TargetMode="External"/><Relationship Id="rId3" Type="http://schemas.microsoft.com/office/2007/relationships/media" Target="file:///tmp/home/.config/libreoffice/4/user/gallery/SPARKL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file:///tmp/home/.config/libreoffice/4/user/gallery/Drumroll.wav" TargetMode="External"/><Relationship Id="rId3" Type="http://schemas.microsoft.com/office/2007/relationships/media" Target="file:///tmp/home/.config/libreoffice/4/user/gallery/Drumroll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aunted%20house" descr=""/>
          <p:cNvPicPr/>
          <p:nvPr/>
        </p:nvPicPr>
        <p:blipFill>
          <a:blip r:embed="rId1"/>
          <a:stretch/>
        </p:blipFill>
        <p:spPr>
          <a:xfrm>
            <a:off x="0" y="0"/>
            <a:ext cx="10210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0" y="380880"/>
            <a:ext cx="3252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LD HOU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467480" y="304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029040" y="3105000"/>
            <a:ext cx="3085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Y CONN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oor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105520" y="1981080"/>
            <a:ext cx="376236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In the old, old house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was an old,old doo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6172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airs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581280" y="457200"/>
            <a:ext cx="451512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Behindthe old,old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oor was old,old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ep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24680" y="5878440"/>
            <a:ext cx="121932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ld%20chest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 rot="5400000">
            <a:off x="2309400" y="2338200"/>
            <a:ext cx="4943520" cy="3162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t the top of the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ld,old step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as an old,old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est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33520" y="13716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533520"/>
            <a:ext cx="708660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 the old, old chest were some old, old ha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4" name="Hats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305560" cy="419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ox" descr=""/>
          <p:cNvPicPr/>
          <p:nvPr/>
        </p:nvPicPr>
        <p:blipFill>
          <a:blip r:embed="rId1"/>
          <a:stretch/>
        </p:blipFill>
        <p:spPr>
          <a:xfrm>
            <a:off x="0" y="0"/>
            <a:ext cx="8126280" cy="541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86600" y="52578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676520" y="2971800"/>
            <a:ext cx="5905440" cy="29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nder the old,old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ts was an old,old b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ey%201" descr=""/>
          <p:cNvPicPr/>
          <p:nvPr/>
        </p:nvPicPr>
        <p:blipFill>
          <a:blip r:embed="rId1"/>
          <a:stretch/>
        </p:blipFill>
        <p:spPr>
          <a:xfrm>
            <a:off x="0" y="4257720"/>
            <a:ext cx="8696160" cy="2600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990720" y="2209680"/>
            <a:ext cx="5867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 the old,old box was an old,old ke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host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450960" cy="4022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828800" y="304920"/>
            <a:ext cx="369576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uddanly  appeared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..................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Ghost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450960" cy="4022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838080" y="762120"/>
            <a:ext cx="5981760" cy="19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HOST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9:56:30Z</dcterms:created>
  <dc:creator>Glenboi</dc:creator>
  <dc:description/>
  <dc:language>en-US</dc:language>
  <cp:lastModifiedBy>4glenb2</cp:lastModifiedBy>
  <dcterms:modified xsi:type="dcterms:W3CDTF">2009-10-14T10:59:07Z</dcterms:modified>
  <cp:revision>2</cp:revision>
  <dc:subject/>
  <dc:title>PowerPoint Presentation</dc:title>
</cp:coreProperties>
</file>